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AAE-C2BA-4992-9A26-7FD1D4FC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D01-A448-4CDE-9EBF-87763E9F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812-A87F-4B96-84E9-146E1DDB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018-3AF7-4F25-B018-D660C7B9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1FCC-B7B2-45DE-A41B-268B0618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A8BB-EF80-45C1-A9A0-D4BD2257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DBFF-BDF3-4274-B580-9157D9A2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F320-536D-4AFE-8D36-7BC679CF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061A-491F-4F9E-82A1-B1C63425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0110-00C5-4DAC-AA0F-A9122C3E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AEB9-9A59-4281-AE73-9846ECD7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3AB-BF9C-4CA0-AF28-2DB65070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2913-D8CC-4966-B166-5BA0D6FC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451E-E64A-4A31-95B2-9014DFD6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407B-CBA0-4CB9-9FC3-D7AB6472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EE45-449D-4C6F-AD9F-44CCE05F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F48D-F04B-4C0F-9AD3-A9FCDC58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9CE1E-38AD-4EEC-BF1A-62AC0C33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4497F-5D5C-4163-B686-AC27B4E3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EBAC3-315D-4BDB-BC6D-4F503D7E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A8954-5677-420E-BF9B-CCD930FC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8498-D2A8-4640-B27C-EE51FAE2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177-C776-4245-AF13-3648254D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6CC1-9B8C-4200-AC4D-3BBC7394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DDFE-7D22-47EF-B654-7C8520B5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751CB-38A1-41D8-A72D-480F8D04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72E2B-6CA5-48DB-8EBD-EA74B625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1E859-3D81-4439-BC2A-E139C907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3866-3C10-4A2B-A8A2-BD1FE247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5FD9-7938-41CB-942C-FC77D0DD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C76FB-43CB-42BE-A55D-CDD25867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10B47-54B0-4D7B-A0BE-6A44EDE9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62B08-C12C-4E90-B864-8B100697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35C0-F040-4951-9945-C7B019B1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D6979-2ED5-49D6-AC2F-9AF12C84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34E58-563B-40B8-8FBD-DF7E4B3E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5F7CA-0F84-421C-A4CC-1D03848D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D6C1B-F539-4ACE-A56D-0A3E55B1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56C72-189D-4501-84CD-2D8BD855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4E24E-65EC-413E-B11D-BB14EAA2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27C70-18DE-4838-A33D-21FF134C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D5810-3E89-4052-8076-AB452CCB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5257B-43C3-493B-8D86-198EDDA5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2477E-0AF8-46A2-AD54-B203C704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EC9-386B-4C7E-8C91-7F00FF74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FF0A3-E658-4A7D-A350-C661F3F0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91B58-8AA4-4505-A736-06BA7779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21F06-CF54-495F-A610-7DC37F22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D10EA-D744-4606-B2A0-50D7F309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937F4-F14C-4E87-8FEF-8D53945D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B23DD-51D1-498B-9C35-3A4E2F00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7DDE4-E62C-4E51-B31B-992964F8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9D131-D8E6-4008-8F2A-0D5B350F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8D81E-7B84-4003-9653-A05CCBA4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D5D14-BADB-4E15-AD3F-D035FFD2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C39-3643-48FC-8D18-5BFEBFEB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F5441-4953-4D99-8E50-BE0F57FA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C4B64-1E13-477F-B404-16AA3D60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12873-9DB6-4C98-8A69-4307AC22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E2912-A54B-4602-89E0-D504646D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D25A4-5192-4272-BC9F-B4861FDD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6F984-21EE-42FE-A76D-D22ABBD0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50EAD-032C-4570-8B17-2B0F431D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1019D-DEA6-4B12-8EDD-998EE1C3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06F58-A0D0-4930-B29E-62DE5ACD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18D37-0304-4CC1-9C37-44A058ED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7CD6-BB93-4A90-A2D4-7F6533E2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27B27-CB6D-456B-812A-CF77FB48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10967-D88D-4595-A87C-3432989B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E4B34-60AB-456A-BA7F-03DDD511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6BE8B-15CE-4B5C-935F-D27AF1BE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07390-A337-4C9F-BF33-95D5DEFD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0992B-0B76-41AA-84E7-8C871468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44C08-F3FD-47F9-A919-B852175E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74BC0-CE20-4267-AB66-5C6D3198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FDC51-CC86-452A-A383-1FE0CAF7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2BFF4-0399-4180-8BD3-33F39E30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2BF-290C-486C-A081-84C624B7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9F135-63F8-4127-80A6-C87B9114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87D38-7F09-473F-A026-8704C655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B74F4-6A1F-4FBD-8985-89D3FDF8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C8C7C-44BA-4F25-A83A-E580A2B3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4C396-2569-4C96-B39B-EBEB9CB1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C79-CB4F-4075-BB79-DFD98CD0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D37B-B04A-449E-B078-EA0AD128B6FE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B0D5-6D1C-41F1-8A37-59EA13324D39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7598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7598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626d8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626d8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626d8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13B7-A20E-4645-A17C-ABC3D63BFB20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93D4-BEDC-4580-B117-5923BCD66184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626d8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48E1-B7C6-45A5-9B9B-C262AD88F450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BA45-1914-4626-830B-9904495350EB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DFB5-C017-4996-8F13-B681842E4070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etcode.com/wxpython/introduc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s.berkeley.edu/~flab/languages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ython.org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1517760"/>
            <a:ext cx="7785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 (names)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2f2f2"/>
                </a:solidFill>
                <a:latin typeface="Corbel"/>
              </a:rPr>
              <a:t>Examples of incorrect variable names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rbel"/>
              </a:rPr>
              <a:t>76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trombones = "big parade“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Not good because the variable name starts with a number 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more</a:t>
            </a:r>
            <a:r>
              <a:rPr b="0" lang="en-US" sz="2300" spc="-1" strike="noStrike">
                <a:solidFill>
                  <a:srgbClr val="ff0000"/>
                </a:solidFill>
                <a:latin typeface="Corbel"/>
              </a:rPr>
              <a:t>$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= 1000000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Not good because the variable name has the dollar sign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rbel"/>
              </a:rPr>
              <a:t>class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= "Computer Science 203“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Not good because the variable name used ‘class’ is a reserved word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 (Data Types)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umbers: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tegers (0, 12, 17, -20,…),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loats (0.0, 3.14, 6.02e23,…..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Operators: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+  -  *  /  %  (modulus or remainder)  ** (exponentiation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trings: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nything in double quotes”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 (Data Types)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ype(“Hello World”) : &lt;type ’str’&gt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ype(10) : &lt;type ’int’&gt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ssu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nt  1,000,000  :  1 0 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 (names)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609480" y="152388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ed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and  - assert - break - class - continue - d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del  - elif  - else - except - exec - fin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for - from - global - if - import -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is - lambda - not - or - pass - pr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raise – return – try - while  -y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Some practice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eate  a variable call it var1 and store the number 9 in i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eate  a second variable call it var2 and store the number 1 in i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et the sum of var1 and var2 and store the result in var3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witch the values of var1 and var2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ery Importan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ython is case sensitiv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ariable nam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!=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 (X is different from x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ariablename 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!=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variableNam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unction nam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nt 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!=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ri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if statemen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{conditions to be met}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do this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and this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and this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but this happens regardless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because it isn't indented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Example0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y =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y == 1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nt “y still equals 1, I was just checking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omparison operator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=    equ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=    grater than or equ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=    less than or equ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       less th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       grater th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!=      differ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if statemen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Example02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a = 1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if a &gt; 5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“This shouldn’t happen.”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else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‘This should happen.’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Example03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z = 4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if z &gt; 70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“Something is very wrong”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elif z &lt; 7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“This is normal”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Loops – for loop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for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item </a:t>
            </a: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in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container</a:t>
            </a: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: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# action to repeat for each item in the container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else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action to take once we have finished the loop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Example01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sum = 0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for x in [1, 2, 3, 4]: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sum = sum + x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rbel"/>
              </a:rPr>
              <a:t>execfile(“forexample01”)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pic>
        <p:nvPicPr>
          <p:cNvPr id="370" name="Picture 4" descr="African-Rock-Python-0004"/>
          <p:cNvPicPr/>
          <p:nvPr/>
        </p:nvPicPr>
        <p:blipFill>
          <a:blip r:embed="rId1"/>
          <a:stretch/>
        </p:blipFill>
        <p:spPr>
          <a:xfrm>
            <a:off x="1600200" y="152280"/>
            <a:ext cx="57150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Loops – for loop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Example02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wList = [45, 'eat me', 90210, ‘The day has come’, -67]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r value in newList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int valu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execfile(“forexample02”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Loops - while loop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while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{condition that the loop continues}</a:t>
            </a: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92d050"/>
                </a:solidFill>
                <a:latin typeface="Corbel"/>
              </a:rPr>
              <a:t>{what to do in the loop}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2d050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92d050"/>
                </a:solidFill>
                <a:latin typeface="Corbel"/>
              </a:rPr>
              <a:t>{have it indented, usually four spaces}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{the code here is not looped}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{because it isn't indented}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Example01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x = 10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while x != 0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print x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x = x - 1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“wow, we have counted x down, and now it equals”, x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"And now the loop has ended."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Loops - while loop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Example02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nt “We will show the even numbers up to 20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 =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ile n &lt;= 20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n % 2 == 0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nt 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 = n +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nt "there, done.“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execfile(“whileexample02”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Important note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09120" y="1784520"/>
            <a:ext cx="80773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A condition in an if statement or a while loop can be a simple one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expression 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comparison Operator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expression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if (age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&gt;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100):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 if ( x%2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==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0):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while( (i + j)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&lt;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(k * l - m))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Or  a mix of several simple conditions: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logical operator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ondition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)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logical operator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ondition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) …….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…………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..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logical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operator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ondition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)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if (age&gt;100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AND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salary&gt;100000):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if(color == “red”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OR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color==“pink”)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goodstanding = true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If (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NOT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goodstanding)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Operator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040" y="1294920"/>
            <a:ext cx="388620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mparison Operato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=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=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=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!=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TextBox 3"/>
          <p:cNvSpPr/>
          <p:nvPr/>
        </p:nvSpPr>
        <p:spPr>
          <a:xfrm>
            <a:off x="4876920" y="1295280"/>
            <a:ext cx="36576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ogical Ope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c"/>
                </a:solidFill>
                <a:latin typeface="Consolas"/>
              </a:rPr>
              <a:t>The difference between </a:t>
            </a:r>
            <a:br>
              <a:rPr sz="3600"/>
            </a:br>
            <a:r>
              <a:rPr b="0" lang="en-US" sz="3600" spc="-1" strike="noStrike">
                <a:solidFill>
                  <a:srgbClr val="ffff6c"/>
                </a:solidFill>
                <a:latin typeface="Consolas"/>
              </a:rPr>
              <a:t>for &amp; while</a:t>
            </a:r>
            <a:endParaRPr b="0" lang="en-US" sz="36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4400" y="17845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um = 0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 =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while x &lt;= 4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sum = sum + x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x = x +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print su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um = 0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r x in [1, 2, 3, 4]: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um = sum + x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print su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400" y="1784520"/>
            <a:ext cx="7772400" cy="24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Built-in functions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“something”, somethingelse , …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nipulating pictures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Get a picture from the internet  - Google : </a:t>
            </a:r>
            <a:r>
              <a:rPr b="0" lang="en-US" sz="2000" spc="-1" strike="noStrike">
                <a:solidFill>
                  <a:srgbClr val="0070c0"/>
                </a:solidFill>
                <a:latin typeface="Corbel"/>
              </a:rPr>
              <a:t>free pictures rock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makePicture, show, getColor, SetColor,….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762120" y="4572000"/>
            <a:ext cx="8229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cture = </a:t>
            </a:r>
            <a:r>
              <a:rPr b="0" lang="en-US" sz="1600" spc="-1" strike="noStrike">
                <a:solidFill>
                  <a:srgbClr val="ffe636"/>
                </a:solidFill>
                <a:latin typeface="Arial"/>
              </a:rPr>
              <a:t>makePic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“C:\\Documents and Settings\\aguerbas\\Desktop\\python.jpg"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636"/>
                </a:solidFill>
                <a:latin typeface="Arial"/>
              </a:rPr>
              <a:t>show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picture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User Defined 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294920"/>
            <a:ext cx="777240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# function with no parameters and no returned value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 hello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():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print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"Hello World!"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When you call this function using the interactive console like this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hello()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It will print Helllo World!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# Simple Argument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 withParameters 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(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txt 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):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print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txt+txt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    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When you call this function using the interactive console like this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withParameters(”Hello”)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This function will print the Hello 2 times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User Defined 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# function with parameters and with returned value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1" lang="en-US" sz="20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 product 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umber1,number2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sult = number1 * number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                 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return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resul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value returned by a function can be stored in a variable like this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ariableName 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product(2,3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variableNam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previous instructions can be in the same file where the function product is defined or can be typed in the interactive (black) conso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Using Built-in function</a:t>
            </a:r>
            <a:br>
              <a:rPr sz="4000"/>
            </a:b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math 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1981080"/>
            <a:ext cx="77724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#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ample using built-in math fun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import  ma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rintLogarithm(x)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if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&lt;= 0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"Positive numbers only, please."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retur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sult = math.log(x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nt "The log of x is", resul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Python 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is the name 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of a programming language 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as well</a:t>
            </a:r>
            <a:endParaRPr b="0" lang="en-US" sz="5400" spc="-1" strike="noStrike">
              <a:solidFill>
                <a:srgbClr val="ffff6c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Using Built-in function</a:t>
            </a:r>
            <a:br>
              <a:rPr sz="4000"/>
            </a:b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math 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#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ample using built-in math fun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#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ing the return keywor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import ma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rintLogarithm(x)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i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x &lt;= 0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"Positive numbers only, please."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retur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retur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math.log(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Operations on String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44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message 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=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“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Good Morning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”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The variable message has type String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following operations are illegal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message  </a:t>
            </a:r>
            <a:r>
              <a:rPr b="0" lang="en-US" sz="2800" spc="-1" strike="noStrike">
                <a:solidFill>
                  <a:srgbClr val="ffe636"/>
                </a:solidFill>
                <a:latin typeface="Corbel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 1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message </a:t>
            </a:r>
            <a:r>
              <a:rPr b="0" lang="en-US" sz="28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“Hello”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lso the following operations are illegal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Hello” </a:t>
            </a:r>
            <a:r>
              <a:rPr b="0" lang="en-US" sz="2800" spc="-1" strike="noStrike">
                <a:solidFill>
                  <a:srgbClr val="ffe636"/>
                </a:solidFill>
                <a:latin typeface="Corbel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123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15” </a:t>
            </a:r>
            <a:r>
              <a:rPr b="0" lang="en-US" sz="2800" spc="-1" strike="noStrike">
                <a:solidFill>
                  <a:srgbClr val="ffe636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Operations on String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following operations are legal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Fruit 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=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 “banana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bakedGood 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=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 “nut bread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 fruit 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+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 bakedGoo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peti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print  “fun”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3     </a:t>
            </a:r>
            <a:r>
              <a:rPr b="0" lang="en-US" sz="2400" spc="-1" strike="noStrike">
                <a:solidFill>
                  <a:srgbClr val="f2f2f2"/>
                </a:solidFill>
                <a:latin typeface="Corbel"/>
              </a:rPr>
              <a:t>it  gives you:  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“funfunfun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Operations on number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    is   3   and  not  4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    is   3    and  not 27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-1        is   5    and not  4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/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          is   -1   and not  1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integer division: use decimals to get real numbers 2.0/3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orbel"/>
              </a:rPr>
              <a:t>To avoid ambiguity (confusion) use parenthesis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)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600" spc="-1" strike="noStrike">
                <a:solidFill>
                  <a:srgbClr val="f2f2f2"/>
                </a:solidFill>
                <a:latin typeface="Corbel"/>
              </a:rPr>
              <a:t>(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)-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Things to remember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ython is case sensitiv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dentation is very important in J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Steps to run a Jython (JES)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rite your code (instruction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oad the code (you will be asked to save it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un the code either by using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execfile(“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ocation &amp; name of the file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”)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comman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r by calling directly a function if you have on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structions are executed sequentiall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Exercise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rite a piece of code that gives you the number of days you have lived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clude your name and a description of what the code does at the beginning of your python program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Exercise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rite a program that converts temperature in Celsius to Fahrenheit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)Take the temperature in Celsius and multiply 1.8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)Add 32 degrees. The result is degrees Fahrenhei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Exercise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rite a program that takes four different grades as input and gives you a letter grad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iz01: 90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iz02: 95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iz03 : 93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iz04: 91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output should be: 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c"/>
                </a:solidFill>
                <a:latin typeface="Consolas"/>
              </a:rPr>
              <a:t>Programming Languages Usage</a:t>
            </a:r>
            <a:endParaRPr b="0" lang="en-US" sz="28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1223640" y="556200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numbers are from May 2007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219320" y="1143000"/>
          <a:ext cx="6476760" cy="4159080"/>
        </p:xfrm>
        <a:graphic>
          <a:graphicData uri="http://schemas.openxmlformats.org/drawingml/2006/table">
            <a:tbl>
              <a:tblPr/>
              <a:tblGrid>
                <a:gridCol w="2158920"/>
                <a:gridCol w="2158920"/>
                <a:gridCol w="215892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anguag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a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9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5.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0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H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.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isual Bas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.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r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6.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yth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.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#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.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vaScrip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ub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.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Text Box 79"/>
          <p:cNvSpPr/>
          <p:nvPr/>
        </p:nvSpPr>
        <p:spPr>
          <a:xfrm>
            <a:off x="5080320" y="6019920"/>
            <a:ext cx="29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zetcode.com/wxpython/int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c"/>
                </a:solidFill>
                <a:latin typeface="Consolas"/>
              </a:rPr>
              <a:t>Programming Languages Usage</a:t>
            </a:r>
            <a:endParaRPr b="0" lang="en-US" sz="2800" spc="-1" strike="noStrike">
              <a:solidFill>
                <a:srgbClr val="ffff6c"/>
              </a:solidFill>
              <a:latin typeface="Consolas"/>
            </a:endParaRPr>
          </a:p>
        </p:txBody>
      </p:sp>
      <p:pic>
        <p:nvPicPr>
          <p:cNvPr id="377" name="Picture 4" descr="languages"/>
          <p:cNvPicPr/>
          <p:nvPr/>
        </p:nvPicPr>
        <p:blipFill>
          <a:blip r:embed="rId1"/>
          <a:stretch/>
        </p:blipFill>
        <p:spPr>
          <a:xfrm>
            <a:off x="1173240" y="1784520"/>
            <a:ext cx="7254720" cy="4572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7"/>
          <p:cNvSpPr/>
          <p:nvPr/>
        </p:nvSpPr>
        <p:spPr>
          <a:xfrm>
            <a:off x="4724280" y="6324480"/>
            <a:ext cx="350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2611c"/>
                </a:solidFill>
                <a:uFillTx/>
                <a:latin typeface="Arial"/>
                <a:hlinkClick r:id="rId2"/>
              </a:rPr>
              <a:t>http://www.cs.berkeley.edu/~flab/languag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Python</a:t>
            </a:r>
            <a:endParaRPr b="0" lang="en-US" sz="54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16765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pen Source (Fre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ortab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mple Syntax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ell Document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2611c"/>
                </a:solidFill>
                <a:uFillTx/>
                <a:latin typeface="Corbel"/>
                <a:hlinkClick r:id="rId1"/>
              </a:rPr>
              <a:t>www.python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Programming with Python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at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Constants and Variab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structions (Cod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Assignment (=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If .. Then state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Loop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…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JE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pic>
        <p:nvPicPr>
          <p:cNvPr id="384" name="Picture 5" descr="Jes"/>
          <p:cNvPicPr/>
          <p:nvPr/>
        </p:nvPicPr>
        <p:blipFill>
          <a:blip r:embed="rId1"/>
          <a:stretch/>
        </p:blipFill>
        <p:spPr>
          <a:xfrm>
            <a:off x="1600200" y="990720"/>
            <a:ext cx="605808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Variables are names for data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Examples of good variable names: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age = 99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rovince = “Alberta”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x = 15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y = 32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gasprice = 0.95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i = 3.14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28:39Z</dcterms:created>
  <dc:creator>Information Technologies</dc:creator>
  <dc:description/>
  <dc:language>en-US</dc:language>
  <cp:lastModifiedBy>aguerbas</cp:lastModifiedBy>
  <dcterms:modified xsi:type="dcterms:W3CDTF">2009-03-20T01:33:42Z</dcterms:modified>
  <cp:revision>108</cp:revision>
  <dc:subject/>
  <dc:title>Slide 1</dc:title>
</cp:coreProperties>
</file>